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084-2C5F-4BA5-8EF6-06614763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482-2D35-4716-94B4-1663402E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27C-1EE0-4021-B975-341E501F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984-20B9-4B47-A6C4-8BAED556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F64-6A86-4D09-BA34-1B596E25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8B9-F7CE-46F1-9117-67E1D499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227-9BDA-46D2-8760-17988F57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7F7-06B0-458C-8FE7-C735AE31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B57-BA3C-4F3E-8BB6-BD007A39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2EA-8C25-4DC2-A798-8592F314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EA9-43BA-4A79-A57F-68726BFE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AA5-C480-487D-B896-9CD28BA3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9E06-9D04-4FA1-8352-80E4A0A92F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6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5-06-25T09:41:44Z</dcterms:modified>
  <cp:revision>82</cp:revision>
  <dc:subject/>
  <dc:title>No Slide Title</dc:title>
</cp:coreProperties>
</file>